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DC2-46C1-461B-921C-9F03AA3F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A38-1ACC-454A-94BD-C84C348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F2A38-5C61-44A5-8DD3-98EB18F5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44A4C-F9FB-4CF9-9E8A-6C3D2059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1531D-A84B-494A-AAD9-949A37BE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2A34D-458B-40D1-BD0C-89A6F59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DBAFB-7F28-4D67-B0AA-DA1B673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2359-1CAC-4737-9CC8-0774481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EE303-6B3E-4FAB-93EB-9C9C659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B273-93BA-4D7F-925B-82BEAF2A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78286-04DB-418D-8C5F-31E8E8EF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41062-CBF7-47E6-84DB-80387C13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0D3-7B95-4D3A-A96C-636109C4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7367E-74BB-4FBF-B95D-82B5082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31C10-6703-451D-AEB9-ACA42D9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87524-81C4-4585-8687-F0688E9E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0676E-C51D-4F70-9371-95DFD1B9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011E-AAFC-4B1E-B50A-EE6BBD77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EB743-18AC-4083-9B96-8673F3C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A5E1D-4F13-4B7A-BF4C-8B2580E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F4401-69E0-436D-99D5-369DFDB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B9806-7717-4FCD-8A82-F2B736F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8145C-2626-421E-A337-D333BC8D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993-718D-4233-967C-DB78D9EA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DBA0D-7160-4ABE-8A5B-2EB68EC9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6F0F6-D454-404D-8CC0-CD2B0B66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32EA-1B3E-4F6C-A781-8822599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F1A1B-E326-4F5C-B9C7-EE104BF7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FB25-C831-409E-A230-4888896D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4365F-4644-4CEA-BE9A-71EA2B12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196A1-D5F2-48D8-B629-DABB60A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1246C-3EA5-4D4C-A297-F85D2A5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BB99F-506E-4D84-A3B5-6D21D068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6766F-62ED-4571-B3DC-ABC1F9B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C44-FB7F-4C52-A7D9-334B5A9D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47AD-3A54-4E56-9F9A-72D00952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5E2B-3B95-4D4D-997E-50DFECA9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1AA87-EAE4-4707-88F7-50376EA4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E948D-0DD2-4DA6-BB75-12A0733B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5399E-F8DA-427E-9DC3-7BE0756F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497EB-3B9C-4BC1-BA50-A80333B8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D0684-8B4B-4B3D-A8DA-691DBCAD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DBF5E-64C9-4272-BBB6-2DCCF08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553BA-71CB-43A1-A3F2-9D6CF567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65957-49BB-46B6-A9AC-25A9B3D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0051-6246-42E9-8E57-BFA0143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8411C-7C14-4ECD-A944-A952EBCA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678E0-BDE2-4FB3-BF14-EB62DFB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D493D-A4E8-4551-A788-A1CF72C0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40AFD-D314-4A81-A5BD-43CB65E8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AEB6C-EA9A-4198-982E-5BDB651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6CC7B-AB6E-49E9-A8CB-179FAA9D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4EB00-FA0F-4852-8B05-84B289A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5039A-003F-426A-B2D3-24061A4D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0164C-A0ED-4796-B491-B2AD44C8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C0E87-2994-4363-8FEF-756DFF1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12FD-B7C5-460A-A93C-4A607352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15D5F-C9BB-4F2A-84F1-9C5C40F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A18A8-E1BC-4867-89BC-6EC85AD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94747-247B-4817-ADAC-EDEDB10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D71FA-D207-415F-8296-A457CA8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2B125-4A3C-4E50-9857-0D85EFF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FEA4D-2621-467F-A4BA-4911A10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38B04-33B6-4BB1-A2AF-FAE9D6C0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DDADD-FC36-43A8-81F0-60EDDAC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5A686-8A94-48A6-AC48-B941192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F7FE4-A45B-46D2-82F2-FA14109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8DA-04E0-41B6-8B58-4EE1FA8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FC562-0A4F-4AD7-A3FA-A0DA5D81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6F1C2-68AD-408E-B9E9-7AA6F8EF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FB365-5FD5-4FAC-9FA7-63D674F2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D9C74-E267-4380-9B82-D70B6BBC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7E59F-1F63-4DA4-AF41-C9DFD42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DC4B2-ECC5-4024-BF1E-1089EFDB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156A6-421D-44DF-8E47-C1BEBA7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95476-8E89-4E33-93FA-7D8CECED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C0EFC-41E3-4BDB-B242-855570F4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A6E1D-FEBF-4915-85ED-4959A6C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7D2-A996-40F1-862E-0BBB71B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D02BD-E622-47E9-A53A-831ADB35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30E3A-B786-4074-9EDA-F46E73AF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3DDB4-0F06-4CE9-BF40-A55CB89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FFA05-040E-427A-9A10-B67C9FF2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F23C9-FA49-4608-9B00-A377F9BC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5A1F8-4836-45C4-8CE4-A5FD41BE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6E221-0124-4D84-BA04-E13954B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F4859-2256-4343-8214-0E90D288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86F4C-D055-4160-97C7-8DE153B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12B9F-1EA3-4393-A9C6-26B5C6CF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4516-94DD-48DE-A721-6E0F03B6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931CB-04CB-4070-9EEA-889257A5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DA1AA-F6EE-4819-831E-8EEA8900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FC048-7F3F-44C8-B783-1C18D3F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96432-7A91-4F3C-BE9B-0CD5490D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B0389-31D6-4B97-A36B-D76C5BCC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B3C5C-137C-4345-868F-300F36C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ABE12-B724-4921-88AC-44E4F53B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6A68F-DBB5-4216-BB24-D299448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4FDAC-BFEE-4CA2-B79F-E3F540D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DF043-1D1B-431A-A50D-9F66AF6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AC7-C8AF-446E-98D7-75920CD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1E398-0DB4-4B1B-BA28-D712F97C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1B6FD-8558-45ED-8740-D44A7508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CD0E3-F414-4ECE-91B8-889E1391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2E369-0F8F-42CF-BC49-2D484FCD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3E177-7DB9-4A11-814D-76E9A51C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4ABF4-E410-45CE-A063-9692C6A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533EA-F5F5-411F-8D9B-8F351915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07DFD-3D02-4CBF-8CAB-04838AA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DA558-7008-43D5-9DD9-E883C3A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0D9F7-3540-4B39-B1AA-2D24175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D94-96E1-48E5-BF3C-7F4DA54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C92-5502-4E5C-A2D7-0687BD0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E102E-1122-469A-83C1-3CB463C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E5F58-7FB5-4109-8E82-55FEE93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9599A-9823-4D41-AC6C-49C6530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AE9D8-A5AD-4470-AA28-5D0BB9BC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BD9B2-9EA9-47E9-93C0-9987DDDA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40C87-3E7E-4AA5-B3DD-A563661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9FEB1-3D37-4610-B7B4-CD73BAD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50A95-3207-4AC0-8273-5D23B5BD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2A2A5-D85B-4ADB-88F0-EDC9D54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9836B-405F-4A28-ACD8-14B8F58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AE6C-5C90-41F8-A3A5-B71DBEC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1361C-FB42-4352-89A0-B78847E1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73C29-38BC-4A22-ABCC-CDB609F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B42C0-E887-48A8-8484-01EF48C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CD38B-DF8E-41EF-BE98-45A37C6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4F9C1-5952-494D-A2C9-9B4BA217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AA7DA-272C-454B-BA89-AE50E41B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64606-CC17-4355-BFA3-86FD589E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FFAB-B944-4BF9-B7F0-12B83144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79ED-0337-490A-9BF6-2CF4E394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CF7C-BBEE-4FCF-A0ED-743C9FF8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0255-91A7-4064-86E6-88472D6A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4EB8-078B-49F4-9EC0-696CFDC3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197C-1F26-4783-A019-550D510F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7AB7-85FF-41AD-9533-392F7C13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C0C1-1AB1-4998-A3B7-59D44DAD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33B-8C6C-4CB9-BFB8-996C2A3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DB8A-06DC-4F86-B9A4-09D93A6A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179E-2033-4824-B4B7-D262A98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5734-9309-42CA-AC02-FE7B08A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4248-F394-42F5-8987-143B445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4E24-EFEB-469D-8089-E6ACAE4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E2BB-B3A2-4BF3-9D6D-7EE8FF68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7C41-FB0A-456C-87E5-34397AB1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E897-D3E6-4ED3-875E-FC987C2A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90B1-210E-451F-AF1F-F2C5125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B6D8-FE60-4501-923E-A250E70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E8B-2DF6-40BE-A909-0D10951A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6CB4-774C-4B8A-928B-C373229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3153-DC64-4607-9341-5A758D52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16CE-6DC8-4105-AF76-A5071E7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0937-1B48-49E9-B777-D872B53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6480-5033-4F0B-9222-7A7AFBB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74AE-A3F8-4FEB-90C2-9A471EB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39D6-1D4D-4E6A-904D-38F8042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BFD6-63FC-428C-8F9F-3512B967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8D53-FA90-4EE2-98D3-4198A7B4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A6F6A-0310-4A52-BC29-83FA60B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992-B22B-47B3-905E-65E48C87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E691-35F8-42A8-B645-B6B8D16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F64C-C340-451F-8936-32F9997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89D2-3700-4628-AD1F-A53639F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70C4-227B-49A1-868A-B3556274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B9CE-9225-4A6C-92CE-1E675F01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2929-DDCD-4D8C-A51B-5CAFA93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29F9-B9C0-4B24-B6C5-33F7968B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6EED-F312-4E6E-8467-B2C9C86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0BD5-B686-4F9C-A942-E5A20CB7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4877-04C7-4F81-9577-ADDF74D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248-C09B-4990-834B-E948CACB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0EA1F-F89A-4512-AB50-28C10EDF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C371A-F3EE-462B-B559-42442A0C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4C14-B24A-4684-BA3C-93AE7D6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28F2-FE9A-492F-843A-768410E5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D6E7-AEC8-45A5-AE64-49BC522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7C015-C539-4BB3-998D-037CCFC9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E3BC0-D264-4CBC-9BA7-0461F495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A4861-85B4-46E7-B245-BC0B32F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8343B-BDA7-4036-B45B-A5FA5FB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C102-4E02-4E6C-86F7-09D08D3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711-B779-4603-9194-1273C63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E4803-2883-4BC6-B4E3-B1B77F59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2286C-57DC-451A-BB71-34172144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46055-BD8E-48E5-97ED-B507BD11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B50B-93E0-43F4-B7BD-C6642C2D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BD1C-521D-4B1D-8512-EE5DAECA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27D5-7DEF-4CCD-ADFC-421670D0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61296-D371-4249-8464-19F32FE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D2C2B-43DE-4FC5-AF51-2533C45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FAEC-0116-4DEC-B376-30C0179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9344E-0E45-441E-91A8-2CD1F79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30C-7266-49FD-8207-C8914B3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875EC-C0D7-4FAF-825C-DE8481B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94F2-19E0-4D83-8CA1-CADBB42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5A5B-9C61-4712-9EF9-12DB5A38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635C-3DAB-4152-9DE0-E669E47E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256BD-6770-4F3A-8641-6F1CF98F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F5F53-9198-4CD3-A36D-1195E97A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9076-8A02-436A-A1D5-EBF7B16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DEC10-E2CC-46EF-BC80-E3EA55F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6A8C-FE4D-4D7E-9803-8CF7012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88A0-D807-4DE8-BE4D-008F002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5DA-9DF5-4BB8-A9F5-A6569E4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64EA-377E-498C-A340-412026DD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1B27-FCB4-458C-AB74-B345A3C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07106-C77D-4C18-BBC2-AA861DF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A1DD-DED1-43D9-87FD-85F413E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5F08B-DBD3-4801-BDB7-E4595F4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C7E41-2594-4459-B038-D5AC34D9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9757-C311-41AB-AFBB-DA8B8FFD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9BF7-F949-4397-913E-44ABBAEA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66122-D23C-43CA-BF82-D1BE0FD7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6DEB-CDD6-4A37-A4E0-4666437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B9ED-A90C-4410-8B69-C3B7D7E77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84567-8B43-4CAB-A3E3-3180B2BFD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E6E3-E67F-45FF-8B8A-3363C634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712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71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392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71840" y="6995880"/>
            <a:ext cx="31780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7080" y="6995880"/>
            <a:ext cx="2335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B4D05-F4C7-4ED2-955C-1AC15FEF1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24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240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97128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699000" y="6743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335360" y="6743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9ABD-589B-4702-A5B3-D10DADEE1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34B25-05EB-45CD-B5CE-1DABE333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676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9640" y="2518920"/>
            <a:ext cx="9033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50292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448080" y="703080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227720" y="7030800"/>
            <a:ext cx="234504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D7AC6-B601-4720-B818-4B842680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2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B4F8C-47E9-4EA8-AD69-53EBFFDDB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20360" y="717120"/>
            <a:ext cx="84567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079280" y="0"/>
            <a:ext cx="7916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BB165-EED3-4440-BE34-30083ED85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7655C-FF70-49F2-9E97-D03F308D0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2784F-BD25-4DDA-9875-8A0907C5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553680"/>
            <a:ext cx="8637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748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000" y="6454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D3D40-C573-44FF-8B44-522E923D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8A1A4-1D70-4917-8A4C-9B304E13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73110-98BA-4E4C-9D89-3C64C2B83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2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E2CB1-4107-4687-BD38-2627F5110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A8D9-B193-4857-B9BB-96BC084D0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87D84-B385-46F5-AB5B-9B4D314B1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224DC-85EF-4CF7-90FF-953ADB602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hyperlink" Target="http://www.dhmo.org/" TargetMode="External"/><Relationship Id="rId4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News...Dihydrogen Monoxide (DHMO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idden Kil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460600" cy="34290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61722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6771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ihydrogen monoxide is colorless, odorless, tasteless, and kills uncounted thousands of people every year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any deaths are caused by accidental inhalation of DHMO, but the dangers of dihydrogen monoxide do not end ther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ymptoms of DHMO ingestion can include excessive sweating and urination, and possibly a bloated feeling, nausea, vomiting and body electrolyte imbalance. For those who have become dependent, DHMO withdrawal means certain death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longed exposure to its solid form causes severe tissue damag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5715000"/>
            <a:ext cx="2514600" cy="49860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" rIns="9000" tIns="37080" bIns="900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indsay Lohan's Latest Addiction—DHMO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HMO is being found Everywhe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1238400" y="1979640"/>
            <a:ext cx="3147840" cy="395748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3520" y="1979280"/>
            <a:ext cx="40402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642960" indent="-641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nd side by side with many other harmful chemicals during Michael Jackson's autops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42960" indent="-641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nd in biopsies of pre-cancerous tumors and lesion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s is Not a New Chemic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531720" y="1719360"/>
            <a:ext cx="4497480" cy="37670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cent Studies have revealed this substance may have played part in the beginnings of the demise of the Titanic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ads to corrosion and oxidation of many metal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ontamination of electrical systems often causes short-circuits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Exposure decreases effectiveness of automobile brakes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56640" indent="-655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n dissolve many substanc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2920" y="598320"/>
            <a:ext cx="88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Affects our Wild Lif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60320" y="2189160"/>
            <a:ext cx="4040280" cy="23828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257440" y="2743200"/>
            <a:ext cx="4040280" cy="333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n extraordinarily sticky flui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reates a "stretchy skin"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loon filled with DHMO is Unaffected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914400" y="1986120"/>
            <a:ext cx="2820960" cy="395748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43400" y="2047680"/>
            <a:ext cx="4572000" cy="389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ble to absorb heat without undergoing an increase in temperature or change of stat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sn't the Government Responding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2114640" cy="365760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429000" y="1684440"/>
            <a:ext cx="59436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hould I be concerned about Dihydrogen Monoxide?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Yes, you should be concerned about DHMO! Although the U.S. Government and the Centers for Disease Control (CDC) do not classify Dihydrogen Monoxide as a toxic or carcinogenic substance (as it does with better known chemicals such as hydrochloric acid and benzene), DHMO is a constituent of many known toxic substances, diseases and disease-causing agents, environmental hazards and can even be lethal to humans in quantities as small as a thimbleful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17320" y="685440"/>
            <a:ext cx="8854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You Join Us in Our Quest to Seek and Destroy this Heinous Substance?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800240" y="2971440"/>
            <a:ext cx="404028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ke Action Now!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Flyers Available at Front of presentation area.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More info at: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dhmo.org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6162840"/>
            <a:ext cx="2514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684360" indent="-682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  <a:ea typeface="Arial Unicode MS"/>
              </a:rPr>
              <a:t>Damage caused by DHMO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2:11:59Z</dcterms:created>
  <dc:creator/>
  <dc:description/>
  <dc:language>en-US</dc:language>
  <cp:lastModifiedBy/>
  <dcterms:modified xsi:type="dcterms:W3CDTF">2011-02-24T16:33:50Z</dcterms:modified>
  <cp:revision>8</cp:revision>
  <dc:subject/>
  <dc:title/>
</cp:coreProperties>
</file>